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557-CB98-4C30-AAB2-0789C628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E00E-F4E0-4265-BF43-2C8AD8953A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C55-43F3-4D90-99D6-CA43BE25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C1F-39BB-4FE9-9F7C-9E7C735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FD8-CEC4-4CAA-A2F7-4539C50A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456-29A6-4A71-9EA0-8A60595D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640-7949-4479-8C31-5A3AD01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10B5-C14B-43B3-85B8-AB57036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AE1D-FEE5-4329-9933-168DED6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360F-2E5A-4EF8-840C-88D0F19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34D8-E94B-4722-87A4-B3244CE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FF73-D95B-43E5-BDA1-5331CE3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EE57-76F2-4770-A31D-6B5FD9EA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65B-8B55-4850-8EB3-3C0C3B12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7C9-04D1-4956-93BF-D6F904E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EF0C-F664-42E0-8365-4D7A329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4F6-1453-45DC-BB96-AE6A1940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4F9D-1BF9-4EF3-84D5-FA2075C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45A3-FD77-4162-97F2-75AFC764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643-A7BA-4D16-998E-101F7A24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03E-F808-46C0-96E7-6F5E515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B17-CFBC-4C6D-853E-AEC91EA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A4B-70C3-4207-9422-340D346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32-489E-4659-9220-935BC2F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295-193E-459B-A719-6FD961D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C2F-FD81-4806-85C9-0A324C6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342-6B8C-4207-B4BF-CE48CC5C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253-5613-43B7-929E-3AD15ACC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724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ц. Др Татјана Вулови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Патофизиолошки поремећај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ћелијског дистре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де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Фаза 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азодилатација периферних крвних суд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 срчани и минутни волуме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онходилатациј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Гликогенолиза у јет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Хипоперфузија бубрег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реапсорција Na и воде - повећан венски прили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фреквенца дисањ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Фаза компензације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инусна тахикард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рзо и дубок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диурез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ладна и влажна кож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сензорних функ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латиране зениц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ћелијског дистре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црпљивање компензаторних механиза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кивна хипокс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тварање посткапиларних сфинктера и отварање а-в шант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хемијска аноксија ћелија - анаеробни метаболизам - метаболичка ацидо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пиларни притисак расте - интерстицијални ед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ње венског прилива у ср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за ћелијског дистреса -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 крвни притис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 срчани р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о диса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ни азотни продукти у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де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зодилатација прекапиларног сфинктера који су у фази компензације били затворени (посткапиларни сфинктери остају затворе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гли улазак течности и протеина и њихов прелазак у интерстицијални простор кроз оштећену мембра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оксија тки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окалне некрозе - иреверзибилни ш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Фаза декомпензације - клиничка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зорјента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иодичн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аб пул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шка хипотенз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регуларан срчани р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етећи кардиореспираторни застој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зоријентац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ично дисањ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ома слаб пулс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шка хипотенз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омене на органским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истемим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перфузија ЦНС-а може да доведе до иритације, конвулзија, кортикална депресија, губитак с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Т- стрес улкус, ерозивни гастритис,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функција јетре (нарочито детоксикација и синтетска функциј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ућа - интерстицијални едем, интраалвеоларни едем, респираторна инсуфицијенција и АРД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кр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пољ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ау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варење из Г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утр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плазм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екот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сфолијативни дерматити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течности и електролит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враћање, дијареја, прекомерно знојење,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нкреатитис, дијабетичка ком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вана (33 године) упућена из ургентне јединице са краш повредом карлице,хематомом десне половине трбушног зида. Очуване свести, али летаргична, контакт се успоставља само на име. ТА 80/46, пулс 116/м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Прелом карличних костију, лацерација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јчешћа форма хиповолемијског шока код хируршких болесника је хемораг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Узроци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ло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грудног кош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абдом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ретроперитонеу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партмани (мишић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ПЕРФУЗИЈА МОЗ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ребрална ауторегу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дражљивос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д за ваздухом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уп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Ж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леда (пепељасто сив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рморизован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лаж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лад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кардија (катехолами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едило кож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фузија и кома (церебрална хипоксиј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п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а (хипоксија и ацидоз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е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 основу клиничке слике четири степена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33520" y="762120"/>
          <a:ext cx="8164440" cy="6132240"/>
        </p:xfrm>
        <a:graphic>
          <a:graphicData uri="http://schemas.openxmlformats.org/drawingml/2006/table">
            <a:tbl>
              <a:tblPr/>
              <a:tblGrid>
                <a:gridCol w="1633320"/>
                <a:gridCol w="1633680"/>
                <a:gridCol w="1630440"/>
                <a:gridCol w="1633320"/>
                <a:gridCol w="16336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tak kr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 dis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/ m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o ubrz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ifo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oma s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.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ur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30 ml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al.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emeć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ksioznot i agre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sve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fuz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argij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 s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</a:tbl>
          </a:graphicData>
        </a:graphic>
      </p:graphicFrame>
      <p:sp>
        <p:nvSpPr>
          <p:cNvPr id="140" name="AutoShape 174"/>
          <p:cNvSpPr/>
          <p:nvPr/>
        </p:nvSpPr>
        <p:spPr>
          <a:xfrm>
            <a:off x="6019920" y="4572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75"/>
          <p:cNvSpPr/>
          <p:nvPr/>
        </p:nvSpPr>
        <p:spPr>
          <a:xfrm>
            <a:off x="7467480" y="4572000"/>
            <a:ext cx="844560" cy="976320"/>
          </a:xfrm>
          <a:prstGeom prst="downArrow">
            <a:avLst>
              <a:gd name="adj1" fmla="val 50000"/>
              <a:gd name="adj2" fmla="val 289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78"/>
          <p:cNvSpPr/>
          <p:nvPr/>
        </p:nvSpPr>
        <p:spPr>
          <a:xfrm>
            <a:off x="0" y="0"/>
            <a:ext cx="25909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ATLS; 2004. 70kg muškar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ВАЖН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Често јасна етиологија шо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зо препознавањ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ТА и Фр нису поузда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 након губитка 1/3 циркулишућег волумена јавља се хипотенз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р/Сис. ТА је бољи индикато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рмално је мање од 0,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иуреза је одличан показатељ, али је потребно врем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рмална &gt;1.0 ml/kg/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азни дефици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лонити узрок ш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ке пивремене хемостаз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апија хипоперфузије виталних орг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038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Прехоспитална не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ментална евакуација до хируршке институције након обезбеђивања дисајног пута и респира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губити време на лицу места у покушају обезбеђивања венског пу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шка канулација периферних вен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Хоспитално збрињавање </a:t>
            </a:r>
            <a:br>
              <a:rPr sz="3400"/>
            </a:b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мониторинг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 респир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иларно пуњ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ематокр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на диур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урација кисеоника- пулсни оксимета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ног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нтални стат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а (86 година), анамнестички фебрилна уназад недељу дана. Смањен апетит, измењен ментални статус. Има трајни уринарни катетер, урин тамно пребојен, непријатног мири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Сепса као последица инфекције уринарног тракт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Хемодинамски мониторин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не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(NIBP, EKG, 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, 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(ART, CVP, PCW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Артеријски крвн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је добар дијагностички параметар, нарочито у компензаторној фази ш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потензија пак обично представља слом компензаторних механизама и представља знак смањења прелоада и поред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лед снажне вазоконстрикције притисак може бити нормалан и поред губитка 15-25% циркулишућег волуме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Е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тпуно непоуздана метода процене хемодинамског стауса пацијенат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ило аускултаторна било осцилоскопска не даје тачна мерења код јако изражене вазоконстрикције и хипотенз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ускултаторно мерење може указивати на вредности и до 30 мм Хг мање од оних добијених директним мерење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ија се пласирањем катетера у артерију радиалис (најчешће) или артерију брахиалис (ређе) и инсталирањем сета који механичку енергију - притисак претвара у електрични сигна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датна погодност је што се из артеријске линије могу и често узимати гасне анализе артеријске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бија се након пласирања катетера у горњу шупљу вену канулацијом вене југуларис интерне или вене субклав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им за процену хемодинамике служи као додатна линија за ординирање течности и крви, али и за узимање узорака крви за анализ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рмалан ЦВП код пацијената изно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-10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метар за процену хидрираности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иур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тављање уринарног катетера осносвно је код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лигурију у одсуству претходне реналне патологије треба посматрати као знак неадекватне перфуз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Изабрати течност за надокна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729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иста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в и дерива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риста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убитак у трећи простор у интерстицију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ило 3:1 кристалоида за 1 мл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ТЛС препорук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ристалоида ив за рани третман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бољи Рингер лактат-најсличнији ЕЦ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% Глу не употребљавати у реаним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66640" y="1752480"/>
          <a:ext cx="8001000" cy="4849920"/>
        </p:xfrm>
        <a:graphic>
          <a:graphicData uri="http://schemas.openxmlformats.org/drawingml/2006/table">
            <a:tbl>
              <a:tblPr/>
              <a:tblGrid>
                <a:gridCol w="1760760"/>
                <a:gridCol w="1439640"/>
                <a:gridCol w="1600200"/>
                <a:gridCol w="1600200"/>
                <a:gridCol w="1600200"/>
              </a:tblGrid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v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alt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mH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x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лан (54 године) у личној анамнези последњих 6 година се лечи од хипертензије и дислипидемије. Хоспитализован због изненадних јаких болова иза грудне кости, без свести, филиформног пулса, агоналног дисањ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А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волум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плућни ед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је у интраваскуларном просто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жи повратак нормалне хемодинам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ки за складишт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о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антни и антиинфламаторни ефек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Колоиди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- </a:t>
            </a: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недоста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мисивне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ју крваре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кције хиперсензитив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ћина студија показује да не доводе до смањења мортали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сока ц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тинска употреба се не препоручује болесницима у трау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 користити код сепсе,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Недостаци крв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ешка у компатиби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решна крвна гр.-1:40,000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р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0000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унолошке комплик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пс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50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1:5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5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Ц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20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лови складишт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оксичност цитр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окалц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еркалиј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Динамика надокнад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иркулаторног волум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иси од фазе шо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тне фаза - криста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руга фаза - ко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ећа фаза - кр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Оксигено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ећана потреба ткива за кисеон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лазност дисајних путе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рење сатурације преко пулсног оксимет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ко назалних канила 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ханичка венти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Медикаментозна потпора циркулациј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762120" y="1843200"/>
            <a:ext cx="73468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ecep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VR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2421000"/>
          <a:ext cx="7488360" cy="3381480"/>
        </p:xfrm>
        <a:graphic>
          <a:graphicData uri="http://schemas.openxmlformats.org/drawingml/2006/table">
            <a:tbl>
              <a:tblPr/>
              <a:tblGrid>
                <a:gridCol w="2109960"/>
                <a:gridCol w="2043000"/>
                <a:gridCol w="681120"/>
                <a:gridCol w="749160"/>
                <a:gridCol w="19051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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2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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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but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9 -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sopres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giotensin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8" name="Text Box 83"/>
          <p:cNvSpPr/>
          <p:nvPr/>
        </p:nvSpPr>
        <p:spPr>
          <a:xfrm>
            <a:off x="6516720" y="5805360"/>
            <a:ext cx="20764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ae1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/kg/m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Остала 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риговање ацидобазних поремећаја (ацидоза је негативни инотроп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чење олигур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пора контрактилности срца (инотропни леков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гезија и седација (важна код трауме и опекотина) - ОП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тибиотска трап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722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вала на пажњ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та имају заједничк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а болес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дијагноз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етиолог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Verdana"/>
              </a:rPr>
              <a:t>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ок је процес који има за последицу гашење функција свих органских система систематичним редослед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реме које је потребно да се шок развије кроз све своје фазе варира од пацијента до пацијен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вези је са здравственим статусом и способношћу организма да компензује поремећа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ако се шок развија, процес се убрза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иркулаторни систем није у стању да обезбеди адекватну количину крви ткивима, ћелијска хипоксија и смр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ефини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перфузија виталних органа са неадекватном испоруком кисеоника ткиви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ремећаји у шоку су динамични - стална промена клиничке слик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уларни нив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количина кисеоника у митохондрија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аеробна гликолиза АТП-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боличка ацидо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ласифика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достаје општеприхваћена поде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ма етиологиј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диоге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струк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трибу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3880" y="1823760"/>
            <a:ext cx="77374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Хиповолемијски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рвављење, тешке опекотине, губитак плазме и течности у трећи простор (панкреатитис, илеус), високопродуктивне фистуле, губитици течности преко гастроинтестиналног тракта (дијареја, вомитус), губтици преко уринарног трак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Кардиоге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фаркт миокарда, миокардитис, декомпензација код миокардиопатије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Опструктив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тампонада срца, масивна плућна емболија, тензиони пнеумоторак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Дистрибутив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ептички шок,анафилактични шок,неуроге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Цитотоксич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токсикација цијанидима, интоксикација угљен моноксидом, тешка сеп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jana</cp:lastModifiedBy>
  <dcterms:modified xsi:type="dcterms:W3CDTF">2014-06-09T10:19:5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